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B1F-F583-4945-8642-2E5FE3CE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3B7-0E86-4963-B86A-94E7AA46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B61-343E-42F6-B4B1-E18D324E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BC0-025F-4CD6-B57C-D00520AB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0EB0-FBF1-43B6-829F-30CC55BF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68F3-CBBA-4924-B48B-C511DE6D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D59C-F4FF-429F-B355-E9FB065B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13C2-D78B-4C62-A560-616F409B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D5DE-6D3E-4689-BD9A-975C5FB8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D838-C882-4453-9FE9-2BE5ECD3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8405-0CEC-417C-B2A9-2ECFD179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BB0-4787-4846-BDB3-F2547518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B71A-F073-4520-8B84-ACDC7DD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DADD-0DEA-40ED-9FBF-E942631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72DC-F849-417E-B5C2-A52C5ED8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367F-2910-4A43-B366-92930A14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7A15-0DCA-4AD2-A7A1-D92D57DD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3BA-7A7C-4764-B693-1031C510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15E-8630-4A8A-B497-D0E8963C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541-76C1-45D0-A138-9F221D94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474-7985-4108-B69C-CB12C299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E92-BEE6-471A-A0DD-689B2C8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8F5-6D24-4F08-9F90-49803D3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F4E8-26C6-411D-A4D3-01C7EE77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7230-B655-40BF-A217-B720D9186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D10A-1C78-4E58-ACAA-0EFC6C97D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lackadder ITC"/>
              </a:rPr>
              <a:t>vocabula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urlz MT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urlz MT"/>
              </a:rPr>
              <a:t>Emile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avie"/>
              </a:rPr>
              <a:t>numer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vie"/>
              </a:rPr>
              <a:t>The  top  number  of  a   fractions; represents the number of pieces out of the wh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Numerical fraction 1/4"/>
          <p:cNvPicPr/>
          <p:nvPr/>
        </p:nvPicPr>
        <p:blipFill>
          <a:blip r:embed="rId1"/>
          <a:stretch/>
        </p:blipFill>
        <p:spPr>
          <a:xfrm>
            <a:off x="1447920" y="4038480"/>
            <a:ext cx="1457280" cy="1905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0400" y="4267080"/>
            <a:ext cx="2133720" cy="381240"/>
          </a:xfrm>
          <a:prstGeom prst="leftArrow">
            <a:avLst>
              <a:gd name="adj1" fmla="val 50000"/>
              <a:gd name="adj2" fmla="val 13992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hiller"/>
              </a:rPr>
              <a:t>denomin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iller"/>
              </a:rPr>
              <a:t>The   bottom  number  of  a   fraction; represents the number of pieces that the whole is divided i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Numerical fraction 1/2"/>
          <p:cNvPicPr/>
          <p:nvPr/>
        </p:nvPicPr>
        <p:blipFill>
          <a:blip r:embed="rId1"/>
          <a:stretch/>
        </p:blipFill>
        <p:spPr>
          <a:xfrm>
            <a:off x="1295280" y="3505320"/>
            <a:ext cx="1457280" cy="1904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352680" y="4876920"/>
            <a:ext cx="3429000" cy="457200"/>
          </a:xfrm>
          <a:prstGeom prst="leftArrow">
            <a:avLst>
              <a:gd name="adj1" fmla="val 50000"/>
              <a:gd name="adj2" fmla="val 187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"/>
              </a:rPr>
              <a:t>f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Part   of  a  whole   like   1  half; parts of a whole over the wh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Numerical fraction 1/10"/>
          <p:cNvPicPr/>
          <p:nvPr/>
        </p:nvPicPr>
        <p:blipFill>
          <a:blip r:embed="rId1"/>
          <a:stretch/>
        </p:blipFill>
        <p:spPr>
          <a:xfrm>
            <a:off x="3352680" y="3295800"/>
            <a:ext cx="2718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12:02Z</dcterms:created>
  <dc:creator>emileigh.kincel</dc:creator>
  <dc:description/>
  <dc:language>en-US</dc:language>
  <cp:lastModifiedBy>emileigh.kincel</cp:lastModifiedBy>
  <dcterms:modified xsi:type="dcterms:W3CDTF">2010-11-23T20:31:55Z</dcterms:modified>
  <cp:revision>2</cp:revision>
  <dc:subject/>
  <dc:title>vocabulary</dc:title>
</cp:coreProperties>
</file>